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D84-32F9-47D8-AA50-2E9D3E11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AE6-52D1-4F0A-84A2-040A5AD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7AB-2C19-4F65-8599-39A5FCBF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890-05EB-41F4-BD57-296EB138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AD080-584D-477C-A61D-3F986B3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64E5-8007-4D51-98B8-01329C4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7258-A6F5-44ED-A001-76DF453C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1F5F1-DF86-4182-B85D-34DB92D8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BBFD7-56B2-4275-AC84-FECF19C8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F3E2A-E79D-4965-9274-18FE359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23532-DBE4-49D2-9015-8A1BBFA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395-3C31-4342-AD78-94B52E8E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51FBF-74E2-4DB6-8E9F-C61F473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025C2-9FF9-4FF9-AACF-B399275B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61C9B-7604-478F-A6A8-E8C3782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ABF8-4684-4BE2-9CA6-B1AA1D31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10321-9709-4DC5-90E0-FCECEE3D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452-105B-49ED-916F-D389A41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0EC-5AD7-4CF9-B783-F3D98AB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C89-B0F3-43C9-9590-3F72442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60B-D003-4FC9-AC74-9A83E85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B30-C20D-45F9-AFEF-EED0E32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4F4-0A59-4AA9-B1DB-C58AD39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85D-77C1-4ED9-9F03-2D71AD3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643-65D5-48BA-8705-5C08A2582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2E8-B961-4E78-B7DE-D84E2350B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hree Little Domains That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re Bigger Than A Kingd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has DNA changed taxonom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(deoxyribonucleic acid) revolutionized scientists ability to describe the relationships between organis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w used to describe how organisms are similar to each other in a very specific way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TIC C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e-Domain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DNA analysis was available, scientists have discovered that similarities in DNA existed between three major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ll these groups the three dom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mai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larger than kingd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three domai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tists used DNA evidence to divide all organisms into three main domain grou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a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kar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karyo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tidoglycan in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one type of RNA polymerase (enzyme involved in protein synthe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introns (noncoding regions of ge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tive to streptomycin (type of antibio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embrane-enclosed organel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 Archa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ptidoglycan in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R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ntrons in some ge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nsitive to 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 Eukar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ic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ptidoglycan in cell w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 may not be pres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R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ns present throughout genetic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nsitive to 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ngdoms of Each Dom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Bacteria contains King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ubacte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Archaea contains King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chaebacte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Eukarya contains the kingdo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tista, Fungi, Plantae, &amp; Animal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 a table that demonstrates the three domains and the presence/absence of certain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5:12:58Z</dcterms:created>
  <dc:creator>kmcgrady</dc:creator>
  <dc:description/>
  <dc:language>en-US</dc:language>
  <cp:lastModifiedBy>kmcgrady</cp:lastModifiedBy>
  <dcterms:modified xsi:type="dcterms:W3CDTF">2010-08-24T18:21:32Z</dcterms:modified>
  <cp:revision>3</cp:revision>
  <dc:subject/>
  <dc:title>The Three Little Domains</dc:title>
</cp:coreProperties>
</file>